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C05-1EB0-4D1D-A786-6370BF42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061-B27F-4FB8-8C3D-42CBF209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277-EF01-4E12-9EAF-96860946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BE7-A82F-4450-841D-50E5C0A8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95D-6BC0-4FF4-8A15-8704CBE2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5FD-4600-4E82-A9BA-188EA7F9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A49-AA9E-4724-B2E4-76CAFA7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038-E1A1-42D9-94DC-529061E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EFB-B404-489F-BEA0-67714633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BBB-B743-4A82-A503-95D9133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4F0-313C-4EAE-892C-5CBE94E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421-95DD-4CC4-913D-6C1DF8D3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3EB-D39E-4B9D-8D84-1862271C5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58128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خلِّني قربَ الصليب حيث سالَ المج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مِن دمِ الفادي الحبيب داءُ نفسي يبرأ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50532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قد محا عندَ الصليب دمُ ربي إثم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عنِ القلبِ الكئيب زالَ كلُّ الهمّ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19320"/>
            <a:ext cx="320040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قد رأينا في الصليب قوَّةَ الرَّحمان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إذ بدا أمرٌ عجيب فِديةٌ للجاني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04920"/>
            <a:ext cx="2209680" cy="89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َن قضى فوقَ الصليب ذاكَ جُلُّ القَصد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َأراهُ عن قريب فوقَ عرشِ المجد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1066680"/>
            <a:ext cx="17524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ما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عنّ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09:52:21Z</dcterms:created>
  <dc:creator>SUZANNE.MD</dc:creator>
  <dc:description/>
  <dc:language>en-US</dc:language>
  <cp:lastModifiedBy>HANI SAFI</cp:lastModifiedBy>
  <dcterms:modified xsi:type="dcterms:W3CDTF">2003-03-17T14:16:02Z</dcterms:modified>
  <cp:revision>2</cp:revision>
  <dc:subject/>
  <dc:title>PowerPoint Presentation</dc:title>
</cp:coreProperties>
</file>